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86F-69E8-4B37-BD55-9C843471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E4E-F843-4C2F-99F5-7B787D66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F90-E518-4D65-9495-A08B55F8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107-C9B4-435A-8CFA-33DCEE69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582-7983-49E8-84D8-1D019F80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3FF-454E-443D-B003-471FAA80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583-B959-4CAB-8685-8A1D832B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690-99CA-4A4D-99F2-74CC5C57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79D-7664-40DE-A1A8-C863C47B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47B-782A-4E6A-B7B0-0787D9D8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C57-B9F7-4786-B4AA-2121EA19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816-5314-444F-8DFA-48EF949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CE8D-6538-4CEB-AAB2-6AA10B9E7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97640" cy="76960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477120" y="1447560"/>
            <a:ext cx="1066680" cy="2361960"/>
            <a:chOff x="6477120" y="1447560"/>
            <a:chExt cx="1066680" cy="2361960"/>
          </a:xfrm>
        </p:grpSpPr>
        <p:sp>
          <p:nvSpPr>
            <p:cNvPr id="43" name=""/>
            <p:cNvSpPr/>
            <p:nvPr/>
          </p:nvSpPr>
          <p:spPr>
            <a:xfrm>
              <a:off x="6477120" y="2508120"/>
              <a:ext cx="1066680" cy="13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987240" y="2845800"/>
              <a:ext cx="185040" cy="24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79760" y="3086640"/>
              <a:ext cx="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6986880" y="3327840"/>
              <a:ext cx="925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79760" y="3327840"/>
              <a:ext cx="1389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6848280" y="3134520"/>
              <a:ext cx="463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01480" y="3569040"/>
              <a:ext cx="556200" cy="144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7033320" y="1447560"/>
              <a:ext cx="0" cy="1060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8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0" y="4648320"/>
            <a:ext cx="8380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-304920"/>
            <a:ext cx="10713960" cy="1341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758680" y="10821960"/>
            <a:ext cx="1638360" cy="23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98680" y="-6934320"/>
            <a:ext cx="11201400" cy="14020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758680" y="10821960"/>
            <a:ext cx="1638360" cy="23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5410080" y="0"/>
            <a:ext cx="14000040" cy="1752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58680" y="10821960"/>
            <a:ext cx="1638360" cy="23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665440" y="-7924680"/>
            <a:ext cx="11809440" cy="14782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758680" y="10821960"/>
            <a:ext cx="1638360" cy="23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2057400"/>
            <a:ext cx="16761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8:22:05Z</dcterms:created>
  <dc:creator>socsd</dc:creator>
  <dc:description/>
  <dc:language>en-US</dc:language>
  <cp:lastModifiedBy>SOCSD</cp:lastModifiedBy>
  <dcterms:modified xsi:type="dcterms:W3CDTF">2010-10-22T12:53:58Z</dcterms:modified>
  <cp:revision>4</cp:revision>
  <dc:subject/>
  <dc:title>PowerPoint Presentation</dc:title>
</cp:coreProperties>
</file>